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551-168B-4E16-891F-5D496EFF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EBCB-1B22-412D-A5DC-AF35C50B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318B-CB15-4BF1-9546-E32F6E5A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A95D-67FC-45E4-B558-F1C9AF9C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9DF2-DA81-418B-8610-1ED24623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288F-94BA-4523-BAFF-B0612289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AA34-18C6-4F27-9256-EAA70472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5BB4-6B7F-4E84-9918-6C610593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35F1-3AD2-41CE-8D27-AA2198AC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E6B5-0CD6-4C82-8633-362A871D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BDAC-41DD-41AB-BEE6-287BCA41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971-556C-48FE-91BA-3106F6E7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7C76-597C-46DA-A733-42C542AB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9BA9-84D2-4ED0-8502-141C8AE6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1840-82E5-427B-87E8-DB0BBBA2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74B8-5651-4401-9E52-34CF4091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6673-AFFD-4F58-A426-F7612DE9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F0D13-79D9-4DEC-9B45-8F183B65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DD584-1521-4F60-A843-AB4AC92D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1703E-B2F5-4C8B-B31D-9E318B30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5197F-3324-4556-BE57-BCA0CA93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2FFF3-0E56-46FB-A7C2-A107DDBE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2821-3761-4DD3-A2F1-93F7FB3C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290E7-BBFD-455E-9467-694BCE6C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6F89E-86D2-4B70-848F-C70A60A3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6072D-DE3E-44B0-AB94-0D75815C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50237-642D-4E40-AD67-EF6CCD26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69ED5-4C69-4F19-9CB8-42B2E082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95BC8-B42A-4C7E-9531-B0899C4E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FFE92-4DF9-470A-BE6A-D3FFAF07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A4A55-9304-4804-AED0-23DFF00B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6FC43-3EE6-407E-8E9B-4BA877F8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1746E-EB7F-4CED-9594-1479D798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F24-A452-4E91-8D82-3AD28D36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ECFD8-B1CB-4963-99B9-A9556576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E7681-61C7-4886-BAFC-10937075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F653E-0A5B-4094-9F5E-7171794E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6A07C-E5F8-40BF-A776-C7B2652B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D8567-E99A-4172-A0B4-410E49A7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39FFF-81BB-45FE-BE69-6E2E9E7E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2C797-E3F5-403A-9B23-AFE6E67A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21E82-71AF-4A43-B262-36C331A5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D08BD-4283-4450-BF2D-04BDD604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A4229-BF09-439C-9434-DDEE6F43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89C9-9AA2-4B4F-8943-7D98805E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B83EB-FEF1-4F72-9573-D3BA0D23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F710B-9467-44E0-8F90-FCF6DFDB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C0C81-5C09-4539-B620-CD132728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979C8-1ADC-4A5F-AA0D-BB54DE46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A639A-79E8-4027-AF1A-7FBD8F29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F2C54-C5EE-4B75-BEFE-EF09FBFE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07EAC-6679-4653-9A85-6B6FCCC6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2E848-47B6-4BDE-B014-4A5AFF28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F1D45-B47F-4BDF-9AD8-0F11E5CB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A29B5-2F01-4D2D-89E3-16CFE1C5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5319-001C-41D7-A2B7-9CB8512C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402AE-8A88-43A1-9946-6E07B391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59DDF-5239-4326-AD8E-76276464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0D809-7761-4112-BE6F-0BE53302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1A3F0-E99B-4DD4-90B7-F09B011D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F0237-8733-45CD-9D46-4DA733B5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96C12-E2B9-4E2B-A8FE-6AE93FDE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82618-F073-42C9-9C55-34CBA85F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AD346-8028-4494-A481-D3AA232A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14C0F-EAB6-4640-BFAB-CE5F6BEF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2B9D7-29F5-472B-B0E7-6328A3E3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EE5-09EA-40BE-967C-D47051D1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45D14-4847-4305-9170-08E79F34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5C456-C56C-4FCF-8653-EC3353F9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D5395-982B-4390-9D73-021B6197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36AE9-E43C-46F7-B841-6F9B19C0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D0D2B-FF99-4F73-BC29-CC192DD1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BE842-83AC-4C1D-9E29-9470B3EE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37926-9ADD-4F30-929C-87A2238E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1EFCF-48D2-4804-83D4-A17DAB3F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CBB5D-6B60-40E3-A498-4510F7C9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077BF-1CC9-4722-9B51-1DCB34CF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AD5-4D56-444E-930C-C126D3A1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36BEF-9A7A-4A89-BDB8-139BE05B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B40A5-682B-4FC8-8DD3-9049FB29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63260-49AB-4B73-B1E2-037E8B45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C917B-2963-49F0-8144-0B9CE241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21777-5BA3-48B8-8E75-BB36F8C3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1AE-F3A1-4DCC-84D0-7E4871A0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C399-0D04-4572-A031-5713F6FD3E9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8928-2820-40BD-9F14-9E85EEEE2D3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6B10-D2B1-4D30-828A-25E04A38653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582B-2C6D-4E51-AC2D-3652844D24D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FE5D-4DA4-42D9-A09B-899EE9C284F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3F35-1F94-4C82-99A5-6C78C967CBC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85F2-FB1D-4F87-9FAD-5396A58A6B4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1"/>
          <p:cNvSpPr/>
          <p:nvPr/>
        </p:nvSpPr>
        <p:spPr>
          <a:xfrm>
            <a:off x="357120" y="1143000"/>
            <a:ext cx="82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рганизация и проведение государственной (итоговой) аттестации </a:t>
            </a:r>
            <a:r>
              <a:rPr b="0" lang="ru-RU" sz="3600" spc="-1" strike="noStrike">
                <a:solidFill>
                  <a:srgbClr val="c00000"/>
                </a:solidFill>
                <a:latin typeface="Corbel"/>
              </a:rPr>
              <a:t>выпускников 9 клас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 2011 – 201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учебном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C:\Documents and Settings\Anna\Рабочий стол\Новая папка\1.jpg"/>
          <p:cNvPicPr/>
          <p:nvPr/>
        </p:nvPicPr>
        <p:blipFill>
          <a:blip r:embed="rId1"/>
          <a:stretch/>
        </p:blipFill>
        <p:spPr>
          <a:xfrm>
            <a:off x="5572080" y="3571920"/>
            <a:ext cx="3210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571840" y="2071440"/>
            <a:ext cx="62150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экзамены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форме ГИА:</a:t>
            </a:r>
            <a:br>
              <a:rPr sz="2300"/>
            </a:br>
            <a:br>
              <a:rPr sz="800"/>
            </a:b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 мая  (вторник)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тематика 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зервный день 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 июня)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5 июня (вторник)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русский язык 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зервный день –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 июня</a:t>
            </a:r>
            <a:r>
              <a:rPr b="0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br>
              <a:rPr sz="2500"/>
            </a:br>
            <a:br>
              <a:rPr sz="2500"/>
            </a:b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меты по выбору – в сроки с 26.05. по 18.06.</a:t>
            </a:r>
            <a:br>
              <a:rPr sz="25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16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ОГЛАСНО ТРЕБОВАНИЯМ САНПИН 2.4.2.2821-10, УТВЕРЖДЕННЫМ 29 ДЕКАБРЯ 2010 Г., ПРИ ПРОВЕДЕНИИ ИТОГОВОЙ АТТЕСТАЦИИ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РЫВ МЕЖДУ ЭКЗАМЕНАМИ ДОЛЖЕН БЫТЬ НЕ МЕНЕЕ 2-Х ДНЕЙ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Е РАСПИСАНИЕ НА КАЖДОГО ВЫПУСКНИКА</a:t>
            </a:r>
            <a:br>
              <a:rPr sz="1600"/>
            </a:br>
            <a:br>
              <a:rPr sz="1600"/>
            </a:br>
            <a:br>
              <a:rPr sz="2300"/>
            </a:br>
            <a:r>
              <a:rPr b="0" lang="ru-RU" sz="2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endParaRPr b="0" lang="en-US" sz="2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28880" y="142920"/>
            <a:ext cx="6929280" cy="199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Corbel"/>
              </a:rPr>
              <a:t>Государственная итоговая аттестация 9к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Corbel"/>
              </a:rPr>
              <a:t>2011-2012 учебный год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Сроки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.05. – 18.06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Место проведения – ОУ (школа №4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77960" y="1214280"/>
            <a:ext cx="64008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1. РУССКИЙ ЯЗЫК     2. ЛИТЕРАТУРА    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3. АЛГЕБРА 4. ГЕОМЕТРИЯ      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5. БИОЛОГИЯ     6. ХИМИЯ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7. ИНОСТРАННЫЙ ЯЗЫК 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8. ФИЗИКА 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    9. ИСТОРИЯ       10. ОБЩЕСТВОЗНАНИЕ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11. ГЕОГРАФИЯ    12.   ИНФОРМАТИКА  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13. ТЕХНОЛОГИЯ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14. ФИЗИЧЕСКАЯ КУЛЬТУРА      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77960" y="0"/>
            <a:ext cx="640080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Предметы по выбору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 решению педагогического совета</a:t>
            </a:r>
            <a:r>
              <a:rPr b="1" lang="ru-RU" sz="2400" spc="-1" strike="noStrike">
                <a:solidFill>
                  <a:srgbClr val="320e04"/>
                </a:solidFill>
                <a:latin typeface="Corbel"/>
              </a:rPr>
              <a:t> 19.01.2012</a:t>
            </a: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не более 2-х</a:t>
            </a: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):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77960" y="620280"/>
            <a:ext cx="6400800" cy="60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- УСТНО (ПО БИЛЕТАМ)    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- ЗАЩИТА ПРОЕКТОВ,  РЕФЕРАТОВ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- ПИСЬМЕННО (ТЕСТ)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- СОБЕСЕДОВАНИЕ ПО ВОПРОСАМ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 -ИЗЛОЖЕНИЕ </a:t>
            </a: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В ТРАДИЦИОННОЙ ФОРМЕ  </a:t>
            </a:r>
            <a:r>
              <a:rPr b="1" lang="ru-RU" sz="1400" spc="-1" strike="noStrike">
                <a:solidFill>
                  <a:srgbClr val="572314"/>
                </a:solidFill>
                <a:latin typeface="Corbel"/>
              </a:rPr>
              <a:t>(РУССК. ЯЗ.)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 - КОНТРОЛЬНАЯ РАБОТА </a:t>
            </a: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В ТРАДИЦИОННОЙ ФОРМЕ                             </a:t>
            </a:r>
            <a:r>
              <a:rPr b="1" lang="ru-RU" sz="1400" spc="-1" strike="noStrike">
                <a:solidFill>
                  <a:srgbClr val="572314"/>
                </a:solidFill>
                <a:latin typeface="Corbel"/>
              </a:rPr>
              <a:t>(АЛГЕБРА)</a:t>
            </a: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Д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 МАРТА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2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 – </a:t>
            </a: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ЗАЯВЛЕНИЯ ВЫПУСКНИКОВ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О ВЫБОРЕ ПРЕДМЕТОВ И ФОРМ И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(ОБРАЗЕЦ НА ИНФОРМАЦИОННОМ СТЕНДЕ)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577960" y="0"/>
            <a:ext cx="64008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Формы сдачи экзаменов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solidFill>
            <a:srgbClr val="fff1ce"/>
          </a:solidFill>
          <a:ln w="9360">
            <a:solidFill>
              <a:srgbClr val="475a8d"/>
            </a:solidFill>
            <a:miter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ыбор учащихся 9-х классов -94 человека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691920"/>
            <a:ext cx="8229600" cy="6165720"/>
          </a:xfrm>
          <a:prstGeom prst="rect">
            <a:avLst/>
          </a:prstGeom>
          <a:solidFill>
            <a:srgbClr val="fff1ce"/>
          </a:solidFill>
          <a:ln w="9360">
            <a:solidFill>
              <a:srgbClr val="475a8d"/>
            </a:solidFill>
            <a:miter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rbel"/>
              </a:rPr>
              <a:t>Форма ГИА - апробац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ГИА математика –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6 че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Математика (трад. форма) –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5 че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ГИА русский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2 чел.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Русский (трад. форма) –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1 че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ы по выбору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бществознание 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37 чел.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– 39,4%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Русский язык (тест) 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34 чел.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– 36,2%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Физическая культура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20 чел.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– 21,3%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Алгебра (трад. форма)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20 чел. –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21,3%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Биология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17 чел.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– 18%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Физика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10 чел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. – 10,6%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Русский язык (трад. форма)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9 чел.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-  9,6%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История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7 чел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. – 7,4%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Информатика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7 чел.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– 7,4%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География 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6 чел. -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6,3%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Литература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5 чел.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– 22,9%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Английский язык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4 чел. -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4,2%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Немецкий язык 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3 чел.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– 3,2%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Технология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3 чел.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– 3,2%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Химия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 2 чел.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– 2,1%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77960" y="1071360"/>
            <a:ext cx="64008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</a:t>
            </a:r>
            <a:r>
              <a:rPr b="1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 ОБЯЗАТЕЛЬНЫХ ПРЕДМЕТА </a:t>
            </a: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(РУССКИЙ ЯЗЫК, МАТЕМАТИКА; ВЫБОР ФОРМЫ: </a:t>
            </a:r>
            <a:r>
              <a:rPr b="1" lang="ru-RU" sz="1600" spc="-1" strike="noStrike">
                <a:solidFill>
                  <a:srgbClr val="c00000"/>
                </a:solidFill>
                <a:latin typeface="Corbel"/>
              </a:rPr>
              <a:t>ГИА ИЛИ ТРАДИЦИОННЫЙ </a:t>
            </a: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(ИЗЛОЖЕНИЕ С ЭЛЕМЕНТОМ СОЧИНЕНИЯ, КОНТРОЛЬНАЯ РАБОТА)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 - </a:t>
            </a: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НА ОСНОВАНИИ МЕДИЦИНСКОЙ СПРАВКИ</a:t>
            </a: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 (ЗАКЛЮЧЕНИЕ КЭК)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 - </a:t>
            </a: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НА ОСНОВАНИИ УДОСТОВЕРЕНИЯ ИНВАЛИДНОСТИ </a:t>
            </a: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(КСЕРОКОПИЯ)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 -ЗАЯВЛЕНИЯ О ЩАДЯЩЕЙ ФОРМЕ ИА ОТ ВЫПУСКНИКА, ЕГО РОДИТЕЛЯ (ЗАКОННОГО ПРЕДСТАВИТЕЛЯ)  - </a:t>
            </a:r>
            <a:r>
              <a:rPr b="1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О 01.03.12.</a:t>
            </a:r>
            <a:br>
              <a:rPr sz="1600"/>
            </a:b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МОЖНЫ ДОСРОЧНЫЕ СРОКИ ИЛИ СРОКИ, НЕ СОВПАДАЮЩИЕ С ОСНОВНЫМИ СРОКАМИ СДАЧИ ИА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(ПО ЗАЯВЛЕНИЮ)</a:t>
            </a:r>
            <a:br>
              <a:rPr sz="1600"/>
            </a:br>
            <a:endParaRPr b="0" lang="en-US" sz="1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577960" y="28548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Щадящая форма И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577960" y="691920"/>
            <a:ext cx="64008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-</a:t>
            </a: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2500" spc="-1" strike="noStrike">
                <a:solidFill>
                  <a:srgbClr val="ff0000"/>
                </a:solidFill>
                <a:latin typeface="Corbel"/>
              </a:rPr>
              <a:t>ВЫБИРАТЬ</a:t>
            </a: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ПРЕДМЕТ И ФОРМУ ДЛЯ ИА</a:t>
            </a:r>
            <a:br>
              <a:rPr sz="2500"/>
            </a:b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- </a:t>
            </a:r>
            <a:r>
              <a:rPr b="1" lang="ru-RU" sz="2500" spc="-1" strike="noStrike">
                <a:solidFill>
                  <a:srgbClr val="ff0000"/>
                </a:solidFill>
                <a:latin typeface="Corbel"/>
              </a:rPr>
              <a:t>ПОДАВАТЬ АПЕЛЛЯЦИЮ </a:t>
            </a: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ПРИ УСЛОВИИ НЕСОГЛАСИЯ С ЭКЗАМЕНАЦИОННОЙ ОТМЕТКОЙ</a:t>
            </a: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(В ГОРОДСКУЮ КОНФЛИКТНУЮ КОМИССИЮ В ТЕЧ. З-Х ДНЕЙ ПОСЛЕ ЭКЗАМЕНА)</a:t>
            </a:r>
            <a:br>
              <a:rPr sz="2500"/>
            </a:b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- </a:t>
            </a:r>
            <a:r>
              <a:rPr b="1" lang="ru-RU" sz="2200" spc="-1" strike="noStrike">
                <a:solidFill>
                  <a:srgbClr val="ff0000"/>
                </a:solidFill>
                <a:latin typeface="Corbel"/>
              </a:rPr>
              <a:t>ПРАВО ПЕРЕСДАЧИ </a:t>
            </a: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(</a:t>
            </a: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ПРИ ПОЛУЧЕНИИ НЕ БОЛЕЕ ДВУХ НЕУДОВЛЕТВОРИТЕЛЬНЫХ ОТМЕТОК –В ТРАДИЦ. ФОРМЕ ИЛИ ГИА, БОЛЕЗНИ  ИЛИ ДРУГОЙ УВАЖИТЕЛЬНОЙ ПРИЧИНЫ  ПРИ НАЛИЧИИ ДОКУМЕНТА – </a:t>
            </a: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В ДОПОЛНИТЕЛЬНЫЕ СРОКИ)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577960" y="188640"/>
            <a:ext cx="64008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ПРАВА УЧАЩЕГО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77960" y="1285560"/>
            <a:ext cx="640080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- 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ЧЕРЕЗ УРОКИ </a:t>
            </a: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(ЭЛЕМЕНТЫ ПОВТОРЕНИЯ)</a:t>
            </a: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-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ЭЛЕКТИВНЫЕ КУРСЫ И ФАКУЛЬТАТИВЫ </a:t>
            </a: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(</a:t>
            </a: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РУССКИЙ ЯЗЫК, МАТЕМАТИКА, ФИЗИКА, БИОЛОГИЯ, ОБЩЕСТВОЗНАНИЕ, ТЕХНОЛОГИЯ)</a:t>
            </a:r>
            <a:br>
              <a:rPr sz="2400"/>
            </a:b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-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КОНСУЛЬТАЦИИ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(АПРЕЛЬ, МАЙ)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- САМОПОДГОТОВКУ УЧАЩИХСЯ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- ИНТЕРНЕТ РЕСУРСЫ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577960" y="357120"/>
            <a:ext cx="64008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0e04"/>
                </a:solidFill>
                <a:latin typeface="Corbel"/>
              </a:rPr>
              <a:t>Подготовка к И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Информационная поддержка ГИ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857160"/>
            <a:ext cx="749952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http://www.minobraz.r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http://ege.midural.ru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йт информационной поддержки ЕГЭ и ГИА-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Горячая линия 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-950-64-770-9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-950-64-799-6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-950-64-761-1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лефоны "горячей линии" работают в будние дни с 9.00 - 17.00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Электронные реквизиты школы, Управления образования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920" y="1447560"/>
            <a:ext cx="7648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http://sch4alapaevsk.moy.su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Закладка «Итоговая аттестация выпускников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http//alapaevskuo.edusait.ru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Закладка «ЕГЭ. ГИА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28840" y="-360"/>
            <a:ext cx="72151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оведение репетиционного тестирования в 2012 году на базе ОУ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357200" y="1143000"/>
          <a:ext cx="7358040" cy="5589720"/>
        </p:xfrm>
        <a:graphic>
          <a:graphicData uri="http://schemas.openxmlformats.org/drawingml/2006/table">
            <a:tbl>
              <a:tblPr/>
              <a:tblGrid>
                <a:gridCol w="216000"/>
                <a:gridCol w="7142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9  клас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0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евраль 2012 г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. –проведение диагностической работы по математике (ГИА-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арт –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иагностическая работа по русскому языку (ГИА-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прель –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радиционные работы по русскому языку (изложение) и алгебре (контрольная работ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ай –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епетиционные работы (ГИА-9) по русскому языку и математ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2143080"/>
          </a:xfrm>
          <a:prstGeom prst="rect">
            <a:avLst/>
          </a:prstGeom>
          <a:solidFill>
            <a:srgbClr val="fff1ce"/>
          </a:solidFill>
          <a:ln w="9360">
            <a:solidFill>
              <a:srgbClr val="475a8d"/>
            </a:solidFill>
            <a:miter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1" i="1" lang="ru-RU" sz="3200" spc="-1" strike="noStrike">
                <a:solidFill>
                  <a:srgbClr val="c00000"/>
                </a:solidFill>
                <a:latin typeface="Corbel"/>
              </a:rPr>
              <a:t>ПОДГОТОВКА УЧАЩИХСЯ </a:t>
            </a:r>
            <a:br>
              <a:rPr sz="3200"/>
            </a:br>
            <a:r>
              <a:rPr b="1" i="1" lang="ru-RU" sz="3200" spc="-1" strike="noStrike">
                <a:solidFill>
                  <a:srgbClr val="c00000"/>
                </a:solidFill>
                <a:latin typeface="Corbel"/>
              </a:rPr>
              <a:t>9 - ых    КЛАССОВ К   ИА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28760" y="2642760"/>
            <a:ext cx="8501040" cy="3786120"/>
          </a:xfrm>
          <a:prstGeom prst="rect">
            <a:avLst/>
          </a:prstGeom>
          <a:solidFill>
            <a:srgbClr val="fff1ce"/>
          </a:solidFill>
          <a:ln w="9360">
            <a:solidFill>
              <a:srgbClr val="475a8d"/>
            </a:solidFill>
            <a:miter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Выпуск 2012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9кл.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94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чел. (4 класса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о щадящему режиму – </a:t>
            </a: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чел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6" descr="C:\Documents and Settings\Anna\Рабочий стол\Новая папка\2.jpg"/>
          <p:cNvPicPr/>
          <p:nvPr/>
        </p:nvPicPr>
        <p:blipFill>
          <a:blip r:embed="rId1"/>
          <a:stretch/>
        </p:blipFill>
        <p:spPr>
          <a:xfrm>
            <a:off x="3357720" y="2428920"/>
            <a:ext cx="3187440" cy="31100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00000"/>
                </a:solidFill>
                <a:latin typeface="Corbel"/>
              </a:rPr>
              <a:t>ЖЕЛАЕМ УСПЕХОВ В ПОДГОТОВКЕ И СДАЧЕ ИА !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3" name="Picture 7" descr="C:\Documents and Settings\Anna\Рабочий стол\Новая папка\3.jpg"/>
          <p:cNvPicPr/>
          <p:nvPr/>
        </p:nvPicPr>
        <p:blipFill>
          <a:blip r:embed="rId2"/>
          <a:stretch/>
        </p:blipFill>
        <p:spPr>
          <a:xfrm>
            <a:off x="1428840" y="2500200"/>
            <a:ext cx="2038320" cy="2714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C:\Documents and Settings\Anna\Рабочий стол\Новая папка\4.png"/>
          <p:cNvPicPr/>
          <p:nvPr/>
        </p:nvPicPr>
        <p:blipFill>
          <a:blip r:embed="rId3"/>
          <a:stretch/>
        </p:blipFill>
        <p:spPr>
          <a:xfrm>
            <a:off x="6643800" y="3429000"/>
            <a:ext cx="2500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1"/>
          <p:cNvSpPr/>
          <p:nvPr/>
        </p:nvSpPr>
        <p:spPr>
          <a:xfrm>
            <a:off x="1214280" y="214200"/>
            <a:ext cx="73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Ы 2 четве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2"/>
          <p:cNvSpPr/>
          <p:nvPr/>
        </p:nvSpPr>
        <p:spPr>
          <a:xfrm>
            <a:off x="1357200" y="928800"/>
            <a:ext cx="735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9 класс - 94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певают – 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успевают –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У – 89,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«5» - 6 чел. (9Акл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«5» и «4» – 17 ч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О – 24,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2"/>
          <p:cNvSpPr/>
          <p:nvPr/>
        </p:nvSpPr>
        <p:spPr>
          <a:xfrm>
            <a:off x="1071720" y="-797400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соответствии с решением заседания Совета при Правительстве Свердловской области от 15 сентября 2010 года, Коллегии Министерства общего и профессионального образования Свердловской области от 10 ноября 2010 года государственная (итоговая) аттестация в 9х классах в 2011 году будет проводитьс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 общеобразовательным предметам по выбору выпускника в соответствии с Положением о государственной (итоговой) аттестации выпускников IХ и ХI (ХII) классов общеобразовательных учреждений Российской Федерации, утвержденного приказом Минобразования России от 03.12.1999г. № 1075 (в ред. Приказов Минобразования России от 16 марта 2001года № 1022, от 25 июня 2002 года № 2398, от 21 января 2003 года № 135)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 русскому языку и математике с использованием заданий стандартизированной формы, разработанных Федеральным государственным научным учреждением «Федеральный институт педагогических измерен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85520" y="115920"/>
            <a:ext cx="764388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ГИА-9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1280" y="1700280"/>
            <a:ext cx="843444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7000"/>
          </a:bodyPr>
          <a:p>
            <a:pPr marL="13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На основании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13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шения Государственной экзаменационной комиссии Свердловской области </a:t>
            </a:r>
            <a:r>
              <a:rPr b="0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т 20.10.2011 г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13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ормационного письма Министерства общего и профессионального образования Свердловской области </a:t>
            </a:r>
            <a:r>
              <a:rPr b="0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«О некоторых организационных вопросах подготовки и проведения государственной (итоговой)аттестации обучающихся, завершающих освоение основных общеобразовательных программ основного и среднего (полного) общего образования в 2012 году»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17.11.2011г.№ 03-05/849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13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395280" y="3584880"/>
            <a:ext cx="84247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ож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роведении государственной (итоговой) аттестации обучающихся, завершающих в 2012 году освоение основных образовательных программ основного общего образования, с использованием механизмов независимой оценки знаний обучающихся путем создания территориальных экзаменационных комиссий на территории Свердловской области  /Приложение № 3 к приказу от «07» декабря 2011 г. № 874-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2"/>
          <p:cNvSpPr/>
          <p:nvPr/>
        </p:nvSpPr>
        <p:spPr>
          <a:xfrm>
            <a:off x="1071720" y="-797400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соответствии с решением заседания Совета при Правительстве Свердловской области от 15 сентября 2010 года, Коллегии Министерства общего и профессионального образования Свердловской области от 10 ноября 2010 года государственная (итоговая) аттестация в 9х классах в 2011 году будет проводитьс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 общеобразовательным предметам по выбору выпускника в соответствии с Положением о государственной (итоговой) аттестации выпускников IХ и ХI (ХII) классов общеобразовательных учреждений Российской Федерации, утвержденного приказом Минобразования России от 03.12.1999г. № 1075 (в ред. Приказов Минобразования России от 16 марта 2001года № 1022, от 25 июня 2002 года № 2398, от 21 января 2003 года № 135)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 русскому языку и математике с использованием заданий стандартизированной формы, разработанных Федеральным государственным научным учреждением «Федеральный институт педагогических измерен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5"/>
          <p:cNvSpPr/>
          <p:nvPr/>
        </p:nvSpPr>
        <p:spPr>
          <a:xfrm>
            <a:off x="468360" y="981000"/>
            <a:ext cx="8143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(итоговая) аттестация в 9х классах в 2012 году будет проводитьс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образовательным предметам по выбору выпускника (не более 2-х предметов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ложением о государственной (итоговой) аттестации выпускников IХ и ХI (ХII) классов общеобразовательных учреждений Российской Федерации, утвержденного приказом Минобразования России от 03.12.1999г. № 1075 (в ред. Приказов Минобразования России от 16 марта 2001года № 1022, от 25 июня 2002 года № 2398, от 21 января 2003 года № 13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русскому языку и математике (обязательные предметы),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и, физике (предметы по выбору) с использованием заданий стандартизированной формы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ных Федеральным государственным научным учреждением «Федеральный институт педагогических измерений»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А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520" y="115920"/>
            <a:ext cx="764388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ГИА-9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189000"/>
            <a:ext cx="7499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Участники ГИА-9 в новой форме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(апробация формы – право выбора за учащимся)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285560"/>
            <a:ext cx="74995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Положение о проведении государственной(итоговой)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аттестации по русскому языку и математике, предметов по выбору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учащихся, завершающих в 2012 году освоение основных образовательных программ основного общего образования», утвержден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Приказом МО и ПО СО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07» декабря 2011 г. № 874-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Приказом   УО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т 24.11.20 11   № 01– 10/34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б  обеспечении подготовки к проведению  государственной (итоговой) аттестации обучающихся, завершающих в 2012 году  освоение основных образовательных программ основного и среднего (полного) общего образования  на территории МО город Алапаевск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Приказом ОУ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т 09.12.11 № 01-06/317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Результаты ГИА-9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907920"/>
            <a:ext cx="74995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Результаты ГИА-9 в новой форме,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фиксированные в свидетельстве о результатах ГИА-9 в новой форме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ринимаются к рассмотрению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учреждениями среднего профессионального образования Свердловской области в качестве результатов вступительных испытаний по общеобразовательным предмета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 аттестат по общеобразовательным предметам, сданным в новой форме, выставляется следующая итоговая отметка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более высокая - при разнице годовой отметки и отметки за экзамен в один балл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отметка, полученная как среднее арифметическое годовой отметки и экзаменационной отметки, если разница между ними составляет более чем один балл, при этом округление производится в сторону более высокого балл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снования для сдачи ГИА в щадящей форм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981000"/>
            <a:ext cx="749952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В соответствии с пунктом 2.2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ложения о государственной (итоговой) аттестации  выпускников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X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XI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XII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 классов общеобразовательных учреждений Российской Федерации, утвержденного приказом Минобрнауки России от 03 декабря 1999 года № 1075, с изменениями и дополнениями, для выпускников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X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классов, </a:t>
            </a: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обучавшихся по состоянию здоровья на дому,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оздоровительных образовательных учреждениях санаторного типа для детей</a:t>
            </a: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, нуждающихся в длительном лечени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находившихся в лечебно-профилактических учреждениях </a:t>
            </a: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более 4 месяцев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детей-инвалидов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осударственная (итоговая) аттестация проводится в обстановке, исключающей влияние негативных факторов на состояние их здоровья, и в условиях, отвечающих физиологическим особенностям и состоянию здоровья выпускник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осударственная (итоговая) аттестация для указанных выпускников </a:t>
            </a: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может проводиться досрочно, но не ранее 1 ма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При необходимости </a:t>
            </a: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письменные экзамены могут быть заменены на устные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а </a:t>
            </a: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количество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даваемых экзаменов сокращено </a:t>
            </a: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до двух письменных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 согласованию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 органом местного самоуправления, осуществляющем управление в сфере образования – для выпускников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X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классов муниципальных образовательных учреждений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ОЛИЧЕСТВО ЭКЗАМЕНОВ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14200" y="692280"/>
            <a:ext cx="8715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БЯЗАТЕЛЬНЫЕ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rbel"/>
              </a:rPr>
              <a:t>1.МАТЕМАТИ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rbel"/>
              </a:rPr>
              <a:t>2.РУССКИЙ ЯЗЫК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редметы по выбору – 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не более 2-х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из 14 предметов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ала перев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ого первичного балла в пятибалльную отметку по результатам экзамена ГИА-9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атематик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2012 году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ала перевод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ого первичного балла в пятибалльную отметку по результатам экзамена ГИА-9 в новой форм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2012 году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755640" y="3284640"/>
          <a:ext cx="7272360" cy="1114200"/>
        </p:xfrm>
        <a:graphic>
          <a:graphicData uri="http://schemas.openxmlformats.org/drawingml/2006/table">
            <a:tbl>
              <a:tblPr/>
              <a:tblGrid>
                <a:gridCol w="1454040"/>
                <a:gridCol w="1454400"/>
                <a:gridCol w="1455480"/>
                <a:gridCol w="1454400"/>
                <a:gridCol w="1454040"/>
              </a:tblGrid>
              <a:tr h="2372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рный первичны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олнено менее 5 заданий части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 выполнении минимального крите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-12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-19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-3</a:t>
                      </a: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237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826920" y="5373720"/>
          <a:ext cx="7201080" cy="1279440"/>
        </p:xfrm>
        <a:graphic>
          <a:graphicData uri="http://schemas.openxmlformats.org/drawingml/2006/table">
            <a:tbl>
              <a:tblPr/>
              <a:tblGrid>
                <a:gridCol w="1441440"/>
                <a:gridCol w="1440000"/>
                <a:gridCol w="1440000"/>
                <a:gridCol w="1439640"/>
                <a:gridCol w="144000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метка по пятибалльной шка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первичны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-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-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-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5:25:16Z</dcterms:created>
  <dc:creator>Пользователь</dc:creator>
  <dc:description/>
  <dc:language>en-US</dc:language>
  <cp:lastModifiedBy>Зырянова Анна</cp:lastModifiedBy>
  <dcterms:modified xsi:type="dcterms:W3CDTF">2012-02-10T06:36:57Z</dcterms:modified>
  <cp:revision>59</cp:revision>
  <dc:subject/>
  <dc:title>Слайд 1</dc:title>
</cp:coreProperties>
</file>